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2.gif" ContentType="image/gif"/>
  <Override PartName="/ppt/media/Tarda.wav" ContentType="audio/x-wav"/>
  <Override PartName="/ppt/media/sting.wav" ContentType="audio/x-wav"/>
  <Override PartName="/ppt/media/drumroll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247-28A0-48DE-9DF7-6AC13503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41F-48DA-4412-B3F5-B3CA46DB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9CB-900D-40FA-BDBF-5A2B8AEB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BFD-453C-40E1-B362-3FA46423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AED-EBB7-4BBB-99D9-949E745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463-A944-4976-9E29-526BF33D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A44-D58E-406A-A731-29553C10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E06-104F-4806-92F4-C372D91E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26F-653B-48DB-84E2-F7BE051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C52-C124-4377-9129-81075416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EF9-A5F5-446F-B230-6C02CA78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BC0-9C2B-4E3C-8F70-0E3CBFE3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35D8-2784-4566-9E8A-EBBF4C35BF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sting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09.%20Who%20Correct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Who Wants To Be A Millionaire?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057400" y="3048120"/>
            <a:ext cx="5105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avie"/>
              </a:rPr>
              <a:t>Scie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avie"/>
              </a:rPr>
              <a:t>Chapter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avie"/>
              </a:rPr>
              <a:t>Ed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6" descr="ag00317_"/>
          <p:cNvPicPr/>
          <p:nvPr/>
        </p:nvPicPr>
        <p:blipFill>
          <a:blip r:embed="rId1"/>
          <a:stretch/>
        </p:blipFill>
        <p:spPr>
          <a:xfrm>
            <a:off x="6781680" y="3505320"/>
            <a:ext cx="172080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ag00315_"/>
          <p:cNvPicPr/>
          <p:nvPr/>
        </p:nvPicPr>
        <p:blipFill>
          <a:blip r:embed="rId2"/>
          <a:stretch/>
        </p:blipFill>
        <p:spPr>
          <a:xfrm>
            <a:off x="457200" y="38098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468360" y="27813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resource that comes from nature is a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Natural Resour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Nature Resour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To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iece of pap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resource that comes from nature is a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en you use things again, you ____ th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recyc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lik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re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cre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hen you use things again, you ____ th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5909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something people can use to meet their need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 resour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 a toothbru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wa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 li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is something people can use to meet their need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ste that harms air, water, or land is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lled wha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Dirty 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Li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Ha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ste that harms air, water, or land is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lled wha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opher Colu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o de G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r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you ride a bike instead of driving a car, what happens to pollu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 it incr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it gets reduc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it stays the s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it chan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gets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you ride a bike instead of driving a car, what happens to pollu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684360" y="278136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68360" y="5661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ald D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very few animals of a certain kind are left, that kind of animal is wha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extin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endanger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in trou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a polar b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you take more of a resource than you need it is called 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Wa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Litter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Being gree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Reu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you take more of a resource than you need it is called 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8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ra made a bird feeder from a milk carton. What did she d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pollu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li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wa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re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ra made a bird feeder from a milk carton. What did she d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16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 and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 and En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in and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ich natural resource is burned as fu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 ai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pl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soi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ang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very few animals of a certain kind are left, that kind of animal is wha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3"/>
          <p:cNvSpPr/>
          <p:nvPr/>
        </p:nvSpPr>
        <p:spPr>
          <a:xfrm>
            <a:off x="45720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ich natural resource is burned as fue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t Dis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y Flag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am Pope Du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can bricks be made fr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tre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pl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cl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anim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can bricks be made fr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6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does litter hurt plant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he litter makes plants di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he plants cannot get ai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lants cannot get light to make foo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litter hides the plants from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lants cannot get light to make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does litter hurt plant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125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ich is not a resour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ti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roc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w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tre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ich is not a resour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25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 Jackson and Bill Clin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 Jackson and Andrew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Clinton and Andrew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Clinton and James Bucha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does not hur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7720" y="28951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rowing trash on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s that sw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il Sp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that sw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does not hur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5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w can people harm natural resourc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ey can save th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ey can waste th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y can reuse th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ey can protect th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was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w can people harm natural resourc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1,0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tion of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gna Ch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y-Do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it called when you use old things to make new thing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re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repai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recyc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resour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09.%20Who%20Correct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hat is it called when you use old things to make new thing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04:39:49Z</dcterms:created>
  <dc:creator>STNG11</dc:creator>
  <dc:description/>
  <dc:language>en-US</dc:language>
  <cp:lastModifiedBy>Tara Schwartz</cp:lastModifiedBy>
  <dcterms:modified xsi:type="dcterms:W3CDTF">2008-03-03T05:24:43Z</dcterms:modified>
  <cp:revision>13</cp:revision>
  <dc:subject/>
  <dc:title>Who Wants To Be A Millionaire?  </dc:title>
</cp:coreProperties>
</file>